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A0FA0-29B7-4CEB-A8F4-4BD61B7C9CE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33EB3-C02E-4057-B52C-712FF45FF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EE579-782C-4F1D-8CE5-B78706FE8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479A9-A88A-4CD4-B316-A9C5692AB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3E4B6-18A4-44AE-924E-84452C610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71A28-E12C-48B6-B24A-94F5EE967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465F-618E-43D9-A2F8-2E04B518A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49C89-B64D-4E9F-B079-744BC954C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897D2-B713-4D2E-B9AE-76333E452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38203-80C5-40CD-BD04-A2F551480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33B6D-6BC2-450B-A2A7-38D7ED626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E452D-83C8-4D2C-80AD-0114DBCE2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DE04B-C1DF-4D32-B6C6-4D21419EB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1D236-FA55-4B90-8AE3-2BEC105EE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F99FC-E9BF-4E0B-992F-5DCB95AE2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3EE80-BC57-445D-AD73-C0EFE4D84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21B67-6E59-4FCF-855D-AA4B29913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9E413-1EA0-472B-B586-82F46F2B7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3767C-4982-471E-85F1-47F1E341F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216B5-643E-4F9E-A16C-65B64431B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29350-0137-45DF-97F3-1BCA8189F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C4380-BA70-427E-A196-34ADECFA6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1A7CF-A574-4CBF-BE92-5A9EEC4DF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C10CB-173A-4D77-BE9C-9C3A798A0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CCBCA-6969-44FA-B0B0-8FDAE8DBB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1E168-8BE9-406D-BD50-F537980E8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889E6-B3CA-4014-B330-45E026051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C33B4-37E1-4DED-AB5D-7E4DF11BD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4DEE-8696-4EA9-878B-DD52C88EB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31431-D060-4CD6-A91C-44562D239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F89F-2598-45D4-89C1-34EB95C3F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D666A-ED93-4AA3-B8FE-784E952DC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FF8E8-C981-4086-87EE-2A668A97E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6331C-FCAE-4987-AF79-014021DD5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6960-C0CB-440A-814A-7B817AE3A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C4683-7EE5-4001-B8F7-018D2C547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72596-BEDE-4AA0-8C00-2359AAA34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1B4E-F951-46B6-9E18-EB42A8215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2A0F0-7404-4F49-ABD8-2BC7F19FB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76D6-98AE-475C-9BD7-AA402CE83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58D5A-3076-4C91-9630-F1E2CF38F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37A2-E61E-4ECB-9797-003EE01BB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E829-4A79-48E7-B0EB-F6C93E7F9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E6776-9141-4679-97CE-367D093B2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5B5B1-EC91-468E-B977-460FA0ACC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C167-9937-4CB8-975F-FE2A1B1FF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9CA62-6D3A-4A76-907D-4B1C43FFA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A3506-A896-4EC4-B5F2-005AE09D5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68676-A19F-4C02-8250-626F19C6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7D747-2832-4518-9A97-838BEA793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7A3FE-EAB1-40B0-9AFD-9AE58FA91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liennummernplatzhalter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CA9D5-1E36-4AEF-B655-57C36D0B8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1406D-368A-4428-AE75-C73AAB09E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36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3336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864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36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80440"/>
            <a:ext cx="264888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044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33360"/>
            <a:ext cx="401436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8640" y="3880440"/>
            <a:ext cx="8226720" cy="24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8110800" y="64548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2A9E-F15E-44BE-B14F-47776D7A3451}" type="slidenum">
              <a:rPr b="1" lang="en-US" sz="1000" spc="-1" strike="noStrike">
                <a:solidFill>
                  <a:srgbClr val="009ddb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Straight Connector 18"/>
          <p:cNvSpPr/>
          <p:nvPr/>
        </p:nvSpPr>
        <p:spPr>
          <a:xfrm>
            <a:off x="122400" y="974880"/>
            <a:ext cx="8889840" cy="0"/>
          </a:xfrm>
          <a:prstGeom prst="line">
            <a:avLst/>
          </a:prstGeom>
          <a:ln w="57240">
            <a:solidFill>
              <a:srgbClr val="009d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21" descr="image1.png"/>
          <p:cNvPicPr/>
          <p:nvPr/>
        </p:nvPicPr>
        <p:blipFill>
          <a:blip r:embed="rId2"/>
          <a:stretch/>
        </p:blipFill>
        <p:spPr>
          <a:xfrm>
            <a:off x="449280" y="6461280"/>
            <a:ext cx="161928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2843640" y="6388200"/>
            <a:ext cx="3547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damentals of </a:t>
            </a:r>
            <a:r>
              <a:rPr b="1" lang="en-US" sz="1400" spc="-1" strike="noStrike">
                <a:solidFill>
                  <a:srgbClr val="009ddb"/>
                </a:solidFill>
                <a:latin typeface="Verdana"/>
              </a:rPr>
              <a:t>Wireless Sensor Networks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: Theory and Practi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tenegus Dargie and Christian Poellabauer ©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age1.png"/>
          <p:cNvPicPr/>
          <p:nvPr/>
        </p:nvPicPr>
        <p:blipFill>
          <a:blip r:embed="rId2"/>
          <a:stretch/>
        </p:blipFill>
        <p:spPr>
          <a:xfrm>
            <a:off x="1674720" y="3757680"/>
            <a:ext cx="5843520" cy="101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b"/>
                </a:solidFill>
                <a:latin typeface="Arial"/>
              </a:rPr>
              <a:t>Chapter 3: Node Architecture</a:t>
            </a:r>
            <a:endParaRPr b="1" lang="en-US" sz="3600" spc="-1" strike="noStrike">
              <a:solidFill>
                <a:srgbClr val="009dd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nalog-to-Digital Convert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8280" y="1189080"/>
            <a:ext cx="7920360" cy="39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C converts the output of a sensor - which is a continuous, analog signal - into a digital signal. It requires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88"/>
              </a:spcBef>
              <a:buClr>
                <a:srgbClr val="0000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analog signal has to be quantized</a:t>
            </a:r>
            <a:r>
              <a:rPr b="0" lang="en-US" sz="1800" spc="-1" strike="noStrike">
                <a:solidFill>
                  <a:srgbClr val="00ad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able discrete values is influenced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by the frequency and magnitude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by the available processing and storag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  the sampling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yquist rate does not suffice because of noise and transmission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339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ution of ADC - an expression of the number of bits that can be used to encode the digital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681360" y="5094360"/>
            <a:ext cx="954000" cy="635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79440" y="4578480"/>
            <a:ext cx="79200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36600" y="5761080"/>
            <a:ext cx="698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Q is the resolution in volts per step (volts per output code)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peak-to-peak analog voltage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ADC’s resolution in 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Processor Sub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Processor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s all the other subsystems and some additional periph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main purpose is to execute instructions pertaining to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self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c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volatile memory - stores program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ory - temporarily stores the sen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rchitectural Overview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can be designed by employing one of the three basic computer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Von Neuman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uper-Harvard (SHARC)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Neumann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b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o transfer data between the processor and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ach data transfer requires a separat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Von Neumann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22360" y="1949400"/>
            <a:ext cx="81820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1187280"/>
            <a:ext cx="81770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vard archite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parate memory sp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toring program instructions an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emory space is interfaced with the processor with a separate data b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structions and data can be access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t the sam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ci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 instruction, multiple data (SIM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ion, a special arithmetic operation and a bit reve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-tasking operating systems; but does not provide virtual memory pro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31800" y="1914480"/>
            <a:ext cx="79614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233000"/>
            <a:ext cx="8226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-Harvard architecture (best known: SH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tension of the Harvard archite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dds two compon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Harvard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instruction cache - temporarily store frequently used instructions - enhance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nderutilized program memory can be used as a temporary relocation place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 Memory Access (D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ly CPU cycles can be invested in a different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3427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memory bus and data memory bus accessible from outside the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uper-Harvard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31" name="Rechteck 5"/>
          <p:cNvSpPr/>
          <p:nvPr/>
        </p:nvSpPr>
        <p:spPr>
          <a:xfrm>
            <a:off x="378612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cess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hteck 6"/>
          <p:cNvSpPr/>
          <p:nvPr/>
        </p:nvSpPr>
        <p:spPr>
          <a:xfrm>
            <a:off x="642924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feil nach links und rechts 7"/>
          <p:cNvSpPr/>
          <p:nvPr/>
        </p:nvSpPr>
        <p:spPr>
          <a:xfrm>
            <a:off x="5214960" y="246852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feil nach rechts 8"/>
          <p:cNvSpPr/>
          <p:nvPr/>
        </p:nvSpPr>
        <p:spPr>
          <a:xfrm>
            <a:off x="1214280" y="32828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feil nach links und rechts 9"/>
          <p:cNvSpPr/>
          <p:nvPr/>
        </p:nvSpPr>
        <p:spPr>
          <a:xfrm>
            <a:off x="1214280" y="3786120"/>
            <a:ext cx="720720" cy="3603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hteck 10"/>
          <p:cNvSpPr/>
          <p:nvPr/>
        </p:nvSpPr>
        <p:spPr>
          <a:xfrm>
            <a:off x="2000160" y="321480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Address 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hteck 11"/>
          <p:cNvSpPr/>
          <p:nvPr/>
        </p:nvSpPr>
        <p:spPr>
          <a:xfrm>
            <a:off x="2000160" y="3705120"/>
            <a:ext cx="1143000" cy="438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ata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hteck 12"/>
          <p:cNvSpPr/>
          <p:nvPr/>
        </p:nvSpPr>
        <p:spPr>
          <a:xfrm>
            <a:off x="1143000" y="3143160"/>
            <a:ext cx="2071800" cy="107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feil nach links 13"/>
          <p:cNvSpPr/>
          <p:nvPr/>
        </p:nvSpPr>
        <p:spPr>
          <a:xfrm>
            <a:off x="5214960" y="1714680"/>
            <a:ext cx="1198440" cy="320400"/>
          </a:xfrm>
          <a:prstGeom prst="lef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hteck 14"/>
          <p:cNvSpPr/>
          <p:nvPr/>
        </p:nvSpPr>
        <p:spPr>
          <a:xfrm>
            <a:off x="1143000" y="164304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rogram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feil nach rechts 15"/>
          <p:cNvSpPr/>
          <p:nvPr/>
        </p:nvSpPr>
        <p:spPr>
          <a:xfrm>
            <a:off x="2571840" y="1714680"/>
            <a:ext cx="1198440" cy="32040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feil nach links und rechts 16"/>
          <p:cNvSpPr/>
          <p:nvPr/>
        </p:nvSpPr>
        <p:spPr>
          <a:xfrm>
            <a:off x="2587680" y="2465280"/>
            <a:ext cx="1198440" cy="32076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hteck 17"/>
          <p:cNvSpPr/>
          <p:nvPr/>
        </p:nvSpPr>
        <p:spPr>
          <a:xfrm>
            <a:off x="6500880" y="4000680"/>
            <a:ext cx="1428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/O Control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feil nach oben und unten 18"/>
          <p:cNvSpPr/>
          <p:nvPr/>
        </p:nvSpPr>
        <p:spPr>
          <a:xfrm>
            <a:off x="7072200" y="278604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feil nach oben und unten 19"/>
          <p:cNvSpPr/>
          <p:nvPr/>
        </p:nvSpPr>
        <p:spPr>
          <a:xfrm>
            <a:off x="7072200" y="5159520"/>
            <a:ext cx="320760" cy="1198440"/>
          </a:xfrm>
          <a:prstGeom prst="upDown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hteck 20"/>
          <p:cNvSpPr/>
          <p:nvPr/>
        </p:nvSpPr>
        <p:spPr>
          <a:xfrm>
            <a:off x="3786120" y="2357280"/>
            <a:ext cx="1143000" cy="4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Instruction Cac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s the following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e memory (RAM) for 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, EPROM, EEPROM, or Flash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I/O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input and output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rnal analog-to-digital  conve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ommunications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Microcontrolle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uilding computationally less intensive, standalone applications, because of it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act 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mall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-power con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gramming and eases debugging, because of the use of higher-level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ower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effici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me custom-made processors (such as DSPs and FPG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pplications (simple sensing tasks but large scale deployments) may prefer to use architecturally simple but energy- and cost-efficient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discrete signals with digital fil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minimize the effect of noise on a signal or enhance or modify the spectral characteristics of a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alog signal processing requires complex hardware components, digital signal processors (DSP) requires simple adders, multipliers, and delay circ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Ps are highly 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DSPs are designed with the Harvard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Digital Signal Processor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owerf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igital filters can be realized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commonp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seful for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at require the deployment of nodes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  <a:ea typeface="宋体"/>
              </a:rPr>
              <a:t>in harsh physical set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where the signal transmission suffers corruption due to noise and interference and, hence, requires aggressive signal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me tasks requi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and not numerical operations) tha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requ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eriodical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upgr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  <a:ea typeface="宋体"/>
              </a:rPr>
              <a:t>modifi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(i.e., the networks should support flexibility in network reprogra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99960"/>
            <a:ext cx="822636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C is a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can be customized for a specif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design approaches: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ull-custom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alf-custo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customized 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ogic cells, circuits, or layout are custom made in order to optimize cel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features which are not defined by the standard cel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and long design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customized ASICs are built with logic cells that are available in the standar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oth cases, the final logic structure is configured by the end user - an ASIC is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 efficient sol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dd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Application-specific 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mple desig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 be optimized to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eet a specif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process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mbedded soft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designed in a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men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ack of re-configu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are not meant to replace microcontrollers or DSPs but to complemen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 rudimentary and low-leve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couple these tasks from the main process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sensor nodes are the essential building blocks in a wireless senso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t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exec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mmunication protocols as well as data process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de consists of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n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ocess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ower sub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-off between flexibility and efficiency – both in terms of energy and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inction between ASICs and FPGAs is not alway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comp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design an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GAs are programmed electrically, by modifying a packaged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is done with the support of circuit diagrams and hardware description languages, such as VHDL and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Field Programmable Gate Array (FPGA)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er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ared to D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i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parallel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oating point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lexibility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and realization proces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icro-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 prefe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design goal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the other mentioned options is preferred if power consumption and computational efficiency is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S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pensive, large in size and less flexible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st for signal proc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specific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PGAs are fa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both microcontrollers and digital signal processors and suppor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comp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but their production cost and the programming difficulty make them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less s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S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er bandwid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they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mall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ize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er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onsume less p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any of the other processing types; but have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high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duction owing to the complex desig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energy e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data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subsystems of a wireless sensor nod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practical size of the node puts restriction on system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via a parallel bus i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n a seria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allel bus need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considering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he size of the 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parallel b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ever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is often between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erial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eripheral Interface (S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urpose Input/Output (GP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Data Input/Output (S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ntegrated Circuit (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these, the most commonly used buses ar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P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ade1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34960" y="1468440"/>
            <a:ext cx="8244000" cy="3905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000240" y="5423040"/>
            <a:ext cx="336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Figure 3.1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Architecture of a wireless sensor n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(Motorola, in the mid-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ull-duplex synchron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al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an official standard, but use of the SPI interface should conform to the implementation specification of others - correct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I bus defin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four p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I (MasterOut/Slav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transmit data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from the master to the sl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a device is configured as a mas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O (MasterIn/SlaveO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LK (Serial 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ma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ock signal that is needed to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ynchronize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876"/>
              </a:spcBef>
              <a:buClr>
                <a:srgbClr val="0000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the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sla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ig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(Chip Select)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via the CS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master and slave devices hold a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in every transmission must read and se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support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communic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ter and the slave must agree on the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and slave should agree on two additiona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olarity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fines whether a clock is used as high- or low-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phase (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determines the times when the data in the registers is allowed to change and when the written data can be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Serial Peripheral Interfac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80880" y="1157400"/>
            <a:ext cx="8313840" cy="4991040"/>
          </a:xfrm>
          <a:prstGeom prst="rect">
            <a:avLst/>
          </a:prstGeom>
          <a:ln w="0">
            <a:noFill/>
          </a:ln>
        </p:spPr>
      </p:pic>
      <p:sp>
        <p:nvSpPr>
          <p:cNvPr id="192" name="Rechteck 4"/>
          <p:cNvSpPr/>
          <p:nvPr/>
        </p:nvSpPr>
        <p:spPr>
          <a:xfrm>
            <a:off x="2646360" y="1122480"/>
            <a:ext cx="44607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vice type that uses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must have </a:t>
            </a:r>
            <a:r>
              <a:rPr b="0" lang="en-US" sz="2400" spc="-1" strike="noStrike">
                <a:solidFill>
                  <a:srgbClr val="00ade1"/>
                </a:solidFill>
                <a:latin typeface="Arial"/>
              </a:rPr>
              <a:t>a unique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be used to communicate with a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arlier versions,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7 bi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used, allowing 112 devices to be uniquely addressed - due to an increasing number of devices, i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is insuffic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us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10 bit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master half-du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ous se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wo bidirectional lines: (unlike SPI, which uses f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Clock (S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Data (S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master generates its own clock signal, communicating devices must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synchronize their clock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lower slave device could wrongly detect its address on the SDA line while a faster master device is sending data to a third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requires arbitration between master device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wa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nd or receive data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ir arbitration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her the master that holds the SDA line low fo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he longest time w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Inter-Integrated Circuit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enables a device to read dat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t a byte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fas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vice can hold the SCL low until it completes reading or sending the next byte - called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and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a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is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to minimize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necting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modating lower transmission sp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defines two speed m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a fast-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bit rate of up to 400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-speed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 transmission rate of up to 3.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ownwards compatible to ensure communication with old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parison 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2720" y="1325520"/>
          <a:ext cx="8237520" cy="4389480"/>
        </p:xfrm>
        <a:graphic>
          <a:graphicData uri="http://schemas.openxmlformats.org/drawingml/2006/table">
            <a:tbl>
              <a:tblPr/>
              <a:tblGrid>
                <a:gridCol w="4064040"/>
                <a:gridCol w="417348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 lines enable full-duplex 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 lines reduce space and simplify circuit layout; Lowers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o addressing is required due to 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ddressing enables multi-master mode; Arbitration is requi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llowing only one master avoids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ulti-master mode is prone to confli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support increases with an increasing number of connected devices -- cos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ardware requirement is independent of the number of devices using the b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master's clock is configured according to the slave's speed but speed adaptation slows down the mas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lower devices may stretch the clock -- latency but keeping other devices wai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depends on the maximum speed of the slowest de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Speed is limited to 3.4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eterogeneous registers size allows flexibility in the devices that are suppor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omogeneous register size reduces over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mbined registers imply every transmission should be read AND w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evices that do not read or provide data are not forced to provide potentially useless b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he absence of an official standard leads to application specific implem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Official standard eases integration of devices since developers can rely on a certain imple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Communication Interfaces - Summary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8640" y="118908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es are essential highways to transf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concern for siz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000" spc="-1" strike="noStrike">
                <a:solidFill>
                  <a:srgbClr val="009ddb"/>
                </a:solidFill>
                <a:latin typeface="Arial"/>
              </a:rPr>
              <a:t>serial b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demand high clock speeds to gain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the same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rallel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buses can also be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bottlenec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, Von Neumann architecture) or may </a:t>
            </a:r>
            <a:r>
              <a:rPr b="0" lang="en-US" sz="2000" spc="-1" strike="noStrike">
                <a:solidFill>
                  <a:srgbClr val="00ade1"/>
                </a:solidFill>
                <a:latin typeface="Arial"/>
              </a:rPr>
              <a:t>not scale w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processor speed (e.g.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due to contention for bus access become critical, for example, if some of the devices act unfairly and keep the bus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8640" y="129996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8640" y="1211040"/>
            <a:ext cx="82267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ote sensor node architecture is a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ulti-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consisting of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wer management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886040" y="1542960"/>
            <a:ext cx="53751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8640" y="1222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e-sensor board contai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-bit, four channels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high-resolution temperature/humidity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w-resolution digital temperature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ght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bus is used to connect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bus is used to interfac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rat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692360" y="1644480"/>
            <a:ext cx="5673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IMote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 prov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ain 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croprocess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in low voltage (0.85V) and low frequency (13MHz)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Voltage Scaling (104MHz - 416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and deep sleep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enabling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ow pow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coprocess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 D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es multimedia operations - computation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e four sub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411120" y="1117440"/>
            <a:ext cx="824724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8640" y="124920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or subsystem is based on the ARM7TDMI core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8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fferent modes (32bits and 16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n on-chip memory of 4KB boot ROM and a 32KB RAM - can be extended by up to 512KB of flash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pur 10-bit ADC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ports (RS232, SPI,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S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multiplexed general purpose I/O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XYZ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subsystem is connected to the processing subsystem through a SPI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2420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RF trans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RF message has been successfully received, the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SPI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s the radio to wake up a sleeping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or subsystem controls the communication subsystem by either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turning it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putting it in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 sle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640" y="1211400"/>
            <a:ext cx="82267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sing subsystem integ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6280" y="1779480"/>
          <a:ext cx="8226360" cy="4421160"/>
        </p:xfrm>
        <a:graphic>
          <a:graphicData uri="http://schemas.openxmlformats.org/drawingml/2006/table">
            <a:tbl>
              <a:tblPr/>
              <a:tblGrid>
                <a:gridCol w="1182600"/>
                <a:gridCol w="1295280"/>
                <a:gridCol w="2532240"/>
                <a:gridCol w="3216240"/>
              </a:tblGrid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o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nd 3D acceleration of movements of people and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cano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a stru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ffness of bones, limbs, joints; Motor fluctuation in Parkinson’s dis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egularities in rail, axle box or wheels of a train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 of fragile objects during 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emissio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stic waves generated by the energy released during crack propag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s micro-structural changes or displa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 &amp; Pipe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ustic pressure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detection; Measure structural irregularities; Gas conta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720" rIns="90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nc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e concent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the water content of a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r>
              <a:rPr b="1" lang="en-US" sz="2800" spc="-1" strike="noStrike">
                <a:solidFill>
                  <a:srgbClr val="009ddb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8640" y="122724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a specific application, namely, to </a:t>
            </a:r>
            <a:r>
              <a:rPr b="0" i="1" lang="en-US" sz="2400" spc="-1" strike="noStrike">
                <a:solidFill>
                  <a:srgbClr val="00ade1"/>
                </a:solidFill>
                <a:latin typeface="Arial"/>
              </a:rPr>
              <a:t>monitor pig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s movements of a sow to predict onset of es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at appropriate care can be given for pregnant s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cough or limping to monitor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1890720" y="1171440"/>
            <a:ext cx="626760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ing subsystems consists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micro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</a:t>
            </a: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less compl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9ddb"/>
                </a:solidFill>
                <a:latin typeface="Arial"/>
              </a:rPr>
              <a:t>less energy intens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ade1"/>
                </a:solidFill>
                <a:latin typeface="Arial"/>
              </a:rPr>
              <a:t>initializes the FPGA an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n external timer and an ADC converter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de1"/>
                </a:solidFill>
                <a:latin typeface="Arial"/>
              </a:rPr>
              <a:t>Field Programmable Gat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the sow monitor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s the functions of the senso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Hogthrob Node Architectur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8640" y="1233360"/>
            <a:ext cx="8226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interfaces supported by the processing subsystem, incl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nterface for the sensing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I interface for the communica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TAG interface for in-system programmability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ial (RS232) interface for interaction with a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9800" y="1355760"/>
          <a:ext cx="8274240" cy="4664160"/>
        </p:xfrm>
        <a:graphic>
          <a:graphicData uri="http://schemas.openxmlformats.org/drawingml/2006/table">
            <a:tbl>
              <a:tblPr/>
              <a:tblGrid>
                <a:gridCol w="1562040"/>
                <a:gridCol w="1244880"/>
                <a:gridCol w="2712960"/>
                <a:gridCol w="27543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in electrical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se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capacitance or inducta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ected by the composition o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ed s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of nutrient contents 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rosc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ular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gait ph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idity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and absolute humid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on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ssive acoustic waves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th quake or volcanic eru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t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intensity, direction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tion and variation of a magn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ce, speed and density of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le on a street; conges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oxygenation of patient'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gl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vascular exertion and tr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exertion relative to 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a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tion of hydrogen 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s the acid and alka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of a water measure 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li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The Sensing Subsystem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352520"/>
          <a:ext cx="8255160" cy="4297320"/>
        </p:xfrm>
        <a:graphic>
          <a:graphicData uri="http://schemas.openxmlformats.org/drawingml/2006/table">
            <a:tbl>
              <a:tblPr/>
              <a:tblGrid>
                <a:gridCol w="1565280"/>
                <a:gridCol w="1139760"/>
                <a:gridCol w="3040200"/>
                <a:gridCol w="25099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ed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acoustic spectros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sen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s gas leak in a 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zoelectric cyl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velo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eak produces a high frequency noise that produces a high frequency noise that produces 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mois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tilizer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exerted on a flu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infrared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 &amp; 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red radiation from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smic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 primary and secondary seismic waves (Body wave, ambient vibratio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 of earth qua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and proportion of oxygen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flow sen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oppler shift of a reflected ultrasonic wave in the b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b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9dd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8640" y="1300320"/>
            <a:ext cx="822672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nsing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alog-to-Digital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cessor Sub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Signal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-specific 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 Peripheral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-Integrate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ote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XYZ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gthrob Node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2:15:06Z</dcterms:created>
  <dc:creator>Marilyn Turnamian</dc:creator>
  <dc:description/>
  <dc:language>en-US</dc:language>
  <cp:lastModifiedBy>1010</cp:lastModifiedBy>
  <cp:lastPrinted>2001-06-14T19:16:14Z</cp:lastPrinted>
  <dcterms:modified xsi:type="dcterms:W3CDTF">2017-02-28T20:28:23Z</dcterms:modified>
  <cp:revision>178</cp:revision>
  <dc:subject/>
  <dc:title>No Slide Title</dc:title>
</cp:coreProperties>
</file>