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D8A40-3AE2-4492-95D6-08145BC44A1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EC64C-E2F6-48B5-A5A4-2FF24267D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DA5D-4D81-46E8-91A4-55461AD0B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323C-4BEE-4673-A542-1793E571D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7C36E-BD6F-451F-839E-ACCE06D9F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B86F-CA20-47E6-9483-95F0F6405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23C6D-BFE7-4550-A8F1-F64F714A2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B9615-90F5-4F9E-9059-023833230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B6CE2-F3F9-44D6-AF15-01DC05620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4783-1D51-43F6-9AD9-50D684A91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25182-4704-45C0-AF19-33787C776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5224F-92FA-4A49-A76C-FC6633BE7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8530-5DD5-4102-ACE2-A826107FC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2E525-46AA-469B-8DBE-B2C34E6C9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F41BA-EAD4-409D-9465-577BDE0EF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48D9C-C5E3-40FE-816E-3E4D0CC50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CB8A1-5FE8-40EC-8603-361C447D3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3AB3F-F176-4196-85C7-668ACC21C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28DF4-AF4C-434E-9D49-B535A27A4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5ECA8-C8B5-4C1E-8F95-6EBB954CD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E280E-E9FB-4A51-8DE7-BBFEEC9F4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F9664-4112-471A-8330-5BDB680F0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94493-008D-4515-982F-052E67578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8737A-1B74-4A2D-B2E8-D7C02DDB0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1AA6B-60D6-4303-9FC7-D64650951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91593-7C6C-427C-A98D-CBE410760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196D-626F-463E-8317-4563D6EFA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A3ED-4266-4B9F-AD2B-EA619D427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084CF-C527-49B2-922D-533933FA1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C888F-67B6-42A3-9DD3-20963FBB9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F3FE8-3B3A-4419-8476-F0A255C47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21E56-B661-47DA-939E-339E29E86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47E6F-448E-47B7-A66B-E0B39157F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07DDA-7691-4FAF-86DE-ADAEADC63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7A1C-3D39-4E30-947D-5FBF2CED9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29DB7-5B2C-4F2E-9354-20D927422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05A8B-6D27-499D-92F8-E20EC58B9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F8F4F-8963-457A-8797-196572392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A668F-851C-4A2F-B25E-FAF49BF1E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CA1DA-4760-41CE-BA13-091BC1F88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3AB4-4D88-4665-BE6F-314A3A566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0714-CDDB-4E48-94CF-2A402984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19DFF-E169-4A8F-AA84-100C741A1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B3BF7-2026-4C24-85E9-80D62FEEA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7B9B-195B-4D0C-AA57-669BF952A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7DB2-96F6-4B37-BD8B-87D78711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7CBE-2545-418E-90D8-95EFEB22A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688EC-FBE9-4AA8-A831-987CF8B6E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7D0C-7473-4575-ADB1-B3E8F29C7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B686-1F3E-4BD2-84F5-10E05ACEC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FA8F6-5703-48B7-949A-7866B50E2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C41ED-1C20-4DC1-A285-69DA6C9C4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66C55-6AEE-4C48-A04D-3A9DE0EAA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110800" y="64548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616D-3CA4-4C98-B57A-4319C01FBC8C}" type="slidenum">
              <a:rPr b="1" lang="en-US" sz="1000" spc="-1" strike="noStrike">
                <a:solidFill>
                  <a:srgbClr val="009ddb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Straight Connector 18"/>
          <p:cNvSpPr/>
          <p:nvPr/>
        </p:nvSpPr>
        <p:spPr>
          <a:xfrm>
            <a:off x="122400" y="974880"/>
            <a:ext cx="8889840" cy="0"/>
          </a:xfrm>
          <a:prstGeom prst="line">
            <a:avLst/>
          </a:prstGeom>
          <a:ln w="57240">
            <a:solidFill>
              <a:srgbClr val="009d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21" descr="image1.png"/>
          <p:cNvPicPr/>
          <p:nvPr/>
        </p:nvPicPr>
        <p:blipFill>
          <a:blip r:embed="rId2"/>
          <a:stretch/>
        </p:blipFill>
        <p:spPr>
          <a:xfrm>
            <a:off x="449280" y="6461280"/>
            <a:ext cx="161928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2843640" y="6388200"/>
            <a:ext cx="354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damentals of </a:t>
            </a:r>
            <a:r>
              <a:rPr b="1" lang="en-US" sz="1400" spc="-1" strike="noStrike">
                <a:solidFill>
                  <a:srgbClr val="009ddb"/>
                </a:solidFill>
                <a:latin typeface="Verdana"/>
              </a:rPr>
              <a:t>Wireless Sensor Network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Theory and Practi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tenegus Dargie and Christian Poellabauer ©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age1.png"/>
          <p:cNvPicPr/>
          <p:nvPr/>
        </p:nvPicPr>
        <p:blipFill>
          <a:blip r:embed="rId2"/>
          <a:stretch/>
        </p:blipFill>
        <p:spPr>
          <a:xfrm>
            <a:off x="1674720" y="3757680"/>
            <a:ext cx="5843520" cy="101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b"/>
                </a:solidFill>
                <a:latin typeface="Arial"/>
              </a:rPr>
              <a:t>Chapter 3: Node Architecture</a:t>
            </a:r>
            <a:endParaRPr b="1" lang="en-US" sz="36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nalog-to-Digital Convert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8280" y="1189080"/>
            <a:ext cx="792036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C converts the output of a sensor - which is a continuous, analog signal - into a digital signal. It requires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0000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analog signal has to be quantized</a:t>
            </a:r>
            <a:r>
              <a:rPr b="0" lang="en-US" sz="1800" spc="-1" strike="noStrike">
                <a:solidFill>
                  <a:srgbClr val="00ad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able discrete values is influenced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by the frequency and magnitude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by the available processing and stor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  the sampling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yquist rate does not suffice because of noise and transmission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of ADC - an expression of the number of bits that can be used to encode the digit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681360" y="5094360"/>
            <a:ext cx="954000" cy="63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79440" y="4578480"/>
            <a:ext cx="79200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36600" y="5761080"/>
            <a:ext cx="698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Q is the resolution in volts per step (volts per output code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peak-to-peak analog voltage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DC’s resolution in 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Processor Sub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Processor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s all the other subsystems and some additional periph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main purpose is to execute instructions pertaining to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lf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c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volatile memory - stores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ory - temporarily stores the sen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rchitectural Overview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can be designed by employing one of the three basic computer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Von Neuman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uper-Harvard (SHARC)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b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o transfer data between the processor and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ach data transfer requires a separat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22360" y="1949400"/>
            <a:ext cx="81820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1187280"/>
            <a:ext cx="81770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parate memory sp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mory space is interfaced with the processor with a separate data 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structions and data can be access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t the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instruction, multiple data (SIM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, a special arithmetic operation and a bit reve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-tasking operating systems; but does not provide virtual memory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31800" y="1914480"/>
            <a:ext cx="7961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233000"/>
            <a:ext cx="8226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-Harvard architecture (best known: SH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tension of the Harvard archite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dds two compon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Harvard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instruction cache - temporarily store frequently used instructions - enhance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nderutilized program memory can be used as a temporary relocation place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 Memory Access (D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ly CPU cycles can be invested in a different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memory bus and data memory bus accessible from outside the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31" name="Rechteck 5"/>
          <p:cNvSpPr/>
          <p:nvPr/>
        </p:nvSpPr>
        <p:spPr>
          <a:xfrm>
            <a:off x="378612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cess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hteck 6"/>
          <p:cNvSpPr/>
          <p:nvPr/>
        </p:nvSpPr>
        <p:spPr>
          <a:xfrm>
            <a:off x="642924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feil nach links und rechts 7"/>
          <p:cNvSpPr/>
          <p:nvPr/>
        </p:nvSpPr>
        <p:spPr>
          <a:xfrm>
            <a:off x="5214960" y="246852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feil nach rechts 8"/>
          <p:cNvSpPr/>
          <p:nvPr/>
        </p:nvSpPr>
        <p:spPr>
          <a:xfrm>
            <a:off x="1214280" y="32828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feil nach links und rechts 9"/>
          <p:cNvSpPr/>
          <p:nvPr/>
        </p:nvSpPr>
        <p:spPr>
          <a:xfrm>
            <a:off x="1214280" y="3786120"/>
            <a:ext cx="72072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hteck 10"/>
          <p:cNvSpPr/>
          <p:nvPr/>
        </p:nvSpPr>
        <p:spPr>
          <a:xfrm>
            <a:off x="2000160" y="321480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ddress 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hteck 11"/>
          <p:cNvSpPr/>
          <p:nvPr/>
        </p:nvSpPr>
        <p:spPr>
          <a:xfrm>
            <a:off x="2000160" y="370512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hteck 12"/>
          <p:cNvSpPr/>
          <p:nvPr/>
        </p:nvSpPr>
        <p:spPr>
          <a:xfrm>
            <a:off x="1143000" y="3143160"/>
            <a:ext cx="20718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feil nach links 13"/>
          <p:cNvSpPr/>
          <p:nvPr/>
        </p:nvSpPr>
        <p:spPr>
          <a:xfrm>
            <a:off x="5214960" y="1714680"/>
            <a:ext cx="1198440" cy="320400"/>
          </a:xfrm>
          <a:prstGeom prst="lef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hteck 14"/>
          <p:cNvSpPr/>
          <p:nvPr/>
        </p:nvSpPr>
        <p:spPr>
          <a:xfrm>
            <a:off x="114300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gram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feil nach rechts 15"/>
          <p:cNvSpPr/>
          <p:nvPr/>
        </p:nvSpPr>
        <p:spPr>
          <a:xfrm>
            <a:off x="2571840" y="1714680"/>
            <a:ext cx="1198440" cy="32040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feil nach links und rechts 16"/>
          <p:cNvSpPr/>
          <p:nvPr/>
        </p:nvSpPr>
        <p:spPr>
          <a:xfrm>
            <a:off x="2587680" y="246528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hteck 17"/>
          <p:cNvSpPr/>
          <p:nvPr/>
        </p:nvSpPr>
        <p:spPr>
          <a:xfrm>
            <a:off x="6500880" y="400068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feil nach oben und unten 18"/>
          <p:cNvSpPr/>
          <p:nvPr/>
        </p:nvSpPr>
        <p:spPr>
          <a:xfrm>
            <a:off x="7072200" y="278604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feil nach oben und unten 19"/>
          <p:cNvSpPr/>
          <p:nvPr/>
        </p:nvSpPr>
        <p:spPr>
          <a:xfrm>
            <a:off x="7072200" y="515952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hteck 20"/>
          <p:cNvSpPr/>
          <p:nvPr/>
        </p:nvSpPr>
        <p:spPr>
          <a:xfrm>
            <a:off x="3786120" y="2357280"/>
            <a:ext cx="1143000" cy="4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ion Cac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s the following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e memory (RAM)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, EPROM, EEPROM, or Flash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I/O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input and outpu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rnal analog-to-digital  conve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ommunication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uilding computationally less intensive, standalone applications, because of it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act 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ma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-power con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gramming and eases debugging, because of the use of higher-level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ower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effic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me custom-made processors (such as DSPs and FPG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pplications (simple sensing tasks but large scale deployments) may prefer to use architecturally simple but energy- and cost-efficien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iscrete signals with digital fil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minimize the effect of noise on a signal or enhance or modify the spectral characteristics of a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alog signal processing requires complex hardware components, digital signal processors (DSP) requires simple adders, multipliers, and delay circ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Ps are highl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DSPs are designed with the 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ower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al filters can be realized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mon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seful for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at require the deployment of nodes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  <a:ea typeface="宋体"/>
              </a:rPr>
              <a:t>in harsh physical set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where the signal transmission suffers corruption due to noise and interference and, hence, requires aggressive signal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 tasks requi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and not numerical operations) tha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requ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eriodic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pgr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mod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i.e., the networks should support flexibility in network reprogra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99960"/>
            <a:ext cx="822636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C is a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an be customized for a specif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design approaches: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ull-custo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alf-custo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customized 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ogic cells, circuits, or layout are custom made in order to optimize cel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features which are not defined by the standard cel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and long desig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customized ASICs are built with logic cells that are available in the standar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cases, the final logic structure is configured by the end user - an ASIC i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 efficient sol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mpl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 be optimized to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eet a specif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process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mbedded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designed in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men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ack of re-config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are not meant to replace microcontrollers or DSPs but to compleme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rudimentary and low-lev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couple these tasks from the main process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sensor nodes are the essential building blocks in a wireless senso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t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ec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mmunication protocols as well as data process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de consists of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oces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ower 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 between flexibility and efficiency – both in terms of energy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inction between ASICs and FPGAs is not alway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sign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programmed electrically, by modifying a packaged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is done with the support of circuit diagrams and hardware description languages, such as VHDL and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er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ed to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i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oating point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ility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and realization proces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icro-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e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design goal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the other mentioned options is preferred if power consumption and computational efficiency i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S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pensive, large in size and less flexible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st for signal proc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specific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PGAs are 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both microcontrollers and digital signal processors and suppor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comp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but their production cost and the programming difficulty make them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less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S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er bandwid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ize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er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onsume less p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any of the other processing types; but have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duction owing to the complex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energy 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ata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subsystems of a wireless sensor nod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practical size of the node puts restriction on system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via a parallel bu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a seria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llel bus need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onsidering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ize of the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b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ever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is often betwee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rial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eripheral Interface (S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urpose Input/Output (GP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Data Input/Output (S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ntegrated Circuit (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these, the most commonly used buses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P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ade1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34960" y="1468440"/>
            <a:ext cx="8244000" cy="390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000240" y="5423040"/>
            <a:ext cx="336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Figure 3.1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Architecture of a wireless sensor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(Motorola, in the mid-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ull-duplex synchron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al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n official standard, but use of the SPI interface should conform to the implementation specification of others - corre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I bus defin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our p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I (MasterOut/Slav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transmit data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from the master to the sl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a device is configured as a m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O (MasterIn/SlaveO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LK (Serial 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ma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signal that is needed to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ynchronize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l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g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(Chip Select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via the CS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aster and slave devices hold a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in every transmission must read and se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support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communic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ter and the slave must agree on the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and slave should agree on two additiona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olarity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fines whether a clock is used as high- or low-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hase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termines the times when the data in the registers is allowed to change and when the written data can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80880" y="1157400"/>
            <a:ext cx="8313840" cy="4991040"/>
          </a:xfrm>
          <a:prstGeom prst="rect">
            <a:avLst/>
          </a:prstGeom>
          <a:ln w="0">
            <a:noFill/>
          </a:ln>
        </p:spPr>
      </p:pic>
      <p:sp>
        <p:nvSpPr>
          <p:cNvPr id="192" name="Rechteck 4"/>
          <p:cNvSpPr/>
          <p:nvPr/>
        </p:nvSpPr>
        <p:spPr>
          <a:xfrm>
            <a:off x="2646360" y="1122480"/>
            <a:ext cx="44607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type that use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must have </a:t>
            </a:r>
            <a:r>
              <a:rPr b="0" lang="en-US" sz="2400" spc="-1" strike="noStrike">
                <a:solidFill>
                  <a:srgbClr val="00ade1"/>
                </a:solidFill>
                <a:latin typeface="Arial"/>
              </a:rPr>
              <a:t>a unique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be used to communicate with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rlier versions,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7 bi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used, allowing 112 devices to be uniquely addressed - due to an increasing number of devices, i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insu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us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10 bit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master half-du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se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wo bidirectional lines: (unlike SPI, which uses f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lock (S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Data (S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master generates its own clock signal, communicating devices mus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ize their clock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lower slave device could wrongly detect its address on the SDA line while a faster master device is sending data to a thir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requires arbitration between master devic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wa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nd or receive data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ir arbitratio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e master that holds the SDA line low f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he longest time w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enables a device to read dat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t a byte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fas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ice can hold the SCL low until it completes reading or sending the next byte - call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o minimize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necting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ing lower transmission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defines two speed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 fast-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bit rate of up to 400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transmission rate of up to 3.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ownwards compatible to ensure communication with old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 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2720" y="1325520"/>
          <a:ext cx="8237520" cy="4389480"/>
        </p:xfrm>
        <a:graphic>
          <a:graphicData uri="http://schemas.openxmlformats.org/drawingml/2006/table">
            <a:tbl>
              <a:tblPr/>
              <a:tblGrid>
                <a:gridCol w="4064040"/>
                <a:gridCol w="417348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 lines enable full-duplex 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 lines reduce space and simplify circuit layout; Lowers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o addressing is required due to 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ddressing enables multi-master mode; Arbitration is requi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llowing only one master avoids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ulti-master mode is prone to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support increases with an increasing number of connected devices -- cos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is independent of the number of devices using the 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master's clock is configured according to the slave's speed but speed adaptation slows down the mas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lower devices may stretch the clock -- latency but keeping other devices wa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depends on the maximum speed of the slowest 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is limited to 3.4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eterogeneous registers size allows flexibility in the devices that are suppor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omogeneous register size reduces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mbined registers imply every transmission should be read AND w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evices that do not read or provide data are not forced to provide potentially useless b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absence of an official standard leads to application specific implem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fficial standard eases integration of devices since developers can rely on a certain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 - Summary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es are essential highways to transf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concern for siz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</a:rPr>
              <a:t>serial b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demand high clock speeds to gain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same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rallel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can also be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bottlen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, Von Neumann architecture) or may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not scale w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processor speed (e.g.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due to contention for bus access become critical, for example, if some of the devices act unfairly and keep the bus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ote sensor node architecture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consisting of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 management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886040" y="1542960"/>
            <a:ext cx="53751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8640" y="1222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e-sensor board contai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-bit, four channels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high-resolution temperature/humidity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w-resolution digital temperature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ght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bus is used to connec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bus is used to interfac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692360" y="1644480"/>
            <a:ext cx="5673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 prov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ain 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croprocess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in low voltage (0.85V) and low frequency (13MHz)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Voltage Scaling (104MHz - 416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and deep slee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enabling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ow pow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D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es multimedia operations - computation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e four sub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411120" y="1117440"/>
            <a:ext cx="82472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8640" y="1249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is based on the ARM7TDMI core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8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fferent modes (32bits and 16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on-chip memory of 4KB boot ROM and a 32KB RAM - can be extended by up to 512KB of flash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pur 10-bit ADC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orts (RS232, SPI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S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multiplexed general purpose I/O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subsystem is connected to the processing subsystem through a SPI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2420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F trans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RF message has been successfully received, th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PI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s the radio to wake up a sleeping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or subsystem controls the communication subsystem by eith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urning it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utting it in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le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640" y="1211400"/>
            <a:ext cx="82267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sing subsystem integ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6280" y="1779480"/>
          <a:ext cx="8226360" cy="4421160"/>
        </p:xfrm>
        <a:graphic>
          <a:graphicData uri="http://schemas.openxmlformats.org/drawingml/2006/table">
            <a:tbl>
              <a:tblPr/>
              <a:tblGrid>
                <a:gridCol w="1182600"/>
                <a:gridCol w="1295280"/>
                <a:gridCol w="2532240"/>
                <a:gridCol w="3216240"/>
              </a:tblGrid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o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nd 3D acceleration of movements of people and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o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a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bones, limbs, joints; Motor fluctuation in Parkinson’s dis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egularities in rail, axle box or wheels of a train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 of fragile objects during 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emissio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stic waves generated by the energy released during crack propa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s micro-structural changes or displa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 &amp; Pipe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pressure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detection; Measure structural irregularities; Gas cont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e concen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the water content of a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8640" y="122724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a specific application, namely, to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onitor pig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movements of a sow to predict onset of es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appropriate care can be given for pregnant s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cough or limping to monitor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1890720" y="1171440"/>
            <a:ext cx="626760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s consists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ess co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ddb"/>
                </a:solidFill>
                <a:latin typeface="Arial"/>
              </a:rPr>
              <a:t>less energy intens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initializes the FPGA an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n external timer and an ADC conver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ield Programmable Gat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the sow monitor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the functions of the senso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interfaces supported by the processing subsystem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nterface for the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interface for the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TAG interface for in-system programmability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ial (RS232) interface for interaction with a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9800" y="1355760"/>
          <a:ext cx="8274240" cy="4664160"/>
        </p:xfrm>
        <a:graphic>
          <a:graphicData uri="http://schemas.openxmlformats.org/drawingml/2006/table">
            <a:tbl>
              <a:tblPr/>
              <a:tblGrid>
                <a:gridCol w="1562040"/>
                <a:gridCol w="1244880"/>
                <a:gridCol w="2712960"/>
                <a:gridCol w="27543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 electrical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capacitance or induct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ed by the composition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of nutrient contents 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rosc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lar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gait ph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and absolute humid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on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ssive acoustic waves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 quake or volcanic eru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intensity, direc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 and variation of a magn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speed and density of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on a street; con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oxygenation of patient'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gl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exertion and tr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xertion relative to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a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tion of hydrogen 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s the acid and alk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of a water measure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l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352520"/>
          <a:ext cx="8255160" cy="4297320"/>
        </p:xfrm>
        <a:graphic>
          <a:graphicData uri="http://schemas.openxmlformats.org/drawingml/2006/table">
            <a:tbl>
              <a:tblPr/>
              <a:tblGrid>
                <a:gridCol w="1565280"/>
                <a:gridCol w="1139760"/>
                <a:gridCol w="3040200"/>
                <a:gridCol w="2509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acoustic spectros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sen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s gas leak in a 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zoelectric cyl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eak produces a high frequency noise that produces a high frequency noise that produces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zer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exerted on a flu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infrared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 radiation from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sm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primary and secondary seismic waves (Body wave, ambient vib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earth qua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and proportion of oxygen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flow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ppler shift of a reflected ultrasonic wave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2:15:06Z</dcterms:created>
  <dc:creator>Marilyn Turnamian</dc:creator>
  <dc:description/>
  <dc:language>en-US</dc:language>
  <cp:lastModifiedBy>1010</cp:lastModifiedBy>
  <cp:lastPrinted>2001-06-14T19:16:14Z</cp:lastPrinted>
  <dcterms:modified xsi:type="dcterms:W3CDTF">2017-02-28T20:28:23Z</dcterms:modified>
  <cp:revision>178</cp:revision>
  <dc:subject/>
  <dc:title>No Slide Title</dc:title>
</cp:coreProperties>
</file>