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E9F7A-E1B9-48BF-910A-CC5E46B3016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49C29-51E9-4BBD-A25D-9F39D53174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8660A-89B1-4500-9E53-7B8EEE3C3D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E46C6-B3C0-4503-B2B9-1EF3238F39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9189F-6308-42AF-B5B8-7C59D2FBDD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D6B1D-AD08-4316-8C36-DE262717CC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BF7D0-671A-488D-AD89-562EF72411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A99F3-ECB6-464D-A2FE-7545B1EE5F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6E84F-10F8-493D-9D44-1D4D6181EA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9D346-DEEF-4153-835F-FEC385CE0F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784E0-FA33-43AD-BE88-DB7000D5B9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C699E-63D4-4A8C-AF83-6925D3714C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3E1EC-0650-489B-B036-1639EA18D8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9EF85-6B3B-4100-BA05-27EE1FEAF6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B5322-14C8-4BF5-B115-F7FDBDAF6F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168F9-C47F-47BB-83F2-097C85CFFF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6999F-24F9-4318-9DF2-4D1EB4E3A2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55B64-B0C3-43FC-AE63-4531561889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1BA6E-8802-4297-A7C8-71BB34DF49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638DB-1F19-4167-9784-A075B062D6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2299D-6BF5-49C1-A805-DDDBFCE377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8187A-BDE5-43B9-9737-AA54F86B6D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ADE49-E257-4945-8D1F-89AFB54F74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1944C-7E64-4C2A-8C5B-0BCBD5EF0F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7EFF8-45B0-47E0-A46C-74713607EE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47BB3-6F35-4F55-80D1-71B3FDC621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07DCB-667E-4508-B0ED-51536602A7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12BE5-C338-4118-87A2-DD8372CEF9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3AF3A-E09A-4B6B-8D08-BA75A014DF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02DA9-462C-4DD8-8C80-61D2242913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7EB8F-4A24-4C2C-A12C-FA5139AB0A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49C39-EFE3-4B45-944C-BB39B4223B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9306F-52AD-4369-BB10-27FEF4AEE6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03A31-D79C-4A94-8852-602934187A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106F3-94F8-488E-8424-2A84A91FAA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6E4AC-9437-40D7-A34F-0323CC5ED8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CDE43-CA77-4098-A4A2-D2B81FBDF7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C18BC-257E-4A1E-87C6-8CFD2E2C3C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E03FE-98FA-4E46-8061-D7A70728D1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62F68-7DC3-4EC3-AA99-D7EA578F64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6D6D0-ED69-4EF2-B957-23BA3B4F27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76E7F-1C9B-49F6-8BCB-AC19D880CB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7E54B-C988-435D-8AA3-9E3D3442A7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E1BAC-634C-4E8C-80AE-6E62FC14BF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6C76E-F4DD-45A6-9B3F-1AFFF39459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3C98D-1EA4-4E04-B02A-9354C50C20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1B82D-987C-4011-B95E-3EC07A189D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06C92-3F9F-40A2-A8DE-C2AF4ED39E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7A59C-E1E4-42F9-BAA6-3BC31AD73A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51183-88C7-493C-916E-B95AE546B6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E9C6C-EE89-4088-AD21-24F07308CA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20A2C-F985-4AA2-AD20-ECDF4CC3E4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7DE27-A576-4C58-AD25-0EB0F96FF7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8640" y="3880440"/>
            <a:ext cx="822672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8640" y="388044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8044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360" y="123336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3336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8640" y="388044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360" y="388044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8044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401436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33360"/>
            <a:ext cx="401436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33360"/>
            <a:ext cx="401436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8640" y="388044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401436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8044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8640" y="3880440"/>
            <a:ext cx="822672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8640" y="3880440"/>
            <a:ext cx="822672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8640" y="388044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8044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360" y="123336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3336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8640" y="388044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360" y="388044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8044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401436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33360"/>
            <a:ext cx="401436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33360"/>
            <a:ext cx="401436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8640" y="388044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401436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8044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8640" y="3880440"/>
            <a:ext cx="822672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0000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00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8110800" y="64548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DDA5-1FAE-402C-9B7B-A105DC1DC26D}" type="slidenum">
              <a:rPr b="1" lang="en-US" sz="1000" spc="-1" strike="noStrike">
                <a:solidFill>
                  <a:srgbClr val="009ddb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Straight Connector 18"/>
          <p:cNvSpPr/>
          <p:nvPr/>
        </p:nvSpPr>
        <p:spPr>
          <a:xfrm>
            <a:off x="122400" y="974880"/>
            <a:ext cx="8889840" cy="0"/>
          </a:xfrm>
          <a:prstGeom prst="line">
            <a:avLst/>
          </a:prstGeom>
          <a:ln w="57240">
            <a:solidFill>
              <a:srgbClr val="009d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21" descr="image1.png"/>
          <p:cNvPicPr/>
          <p:nvPr/>
        </p:nvPicPr>
        <p:blipFill>
          <a:blip r:embed="rId2"/>
          <a:stretch/>
        </p:blipFill>
        <p:spPr>
          <a:xfrm>
            <a:off x="449280" y="6461280"/>
            <a:ext cx="1619280" cy="282600"/>
          </a:xfrm>
          <a:prstGeom prst="rect">
            <a:avLst/>
          </a:prstGeom>
          <a:ln w="0">
            <a:noFill/>
          </a:ln>
        </p:spPr>
      </p:pic>
      <p:sp>
        <p:nvSpPr>
          <p:cNvPr id="5" name="Text Box 11"/>
          <p:cNvSpPr/>
          <p:nvPr/>
        </p:nvSpPr>
        <p:spPr>
          <a:xfrm>
            <a:off x="2843640" y="6388200"/>
            <a:ext cx="3547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undamentals of </a:t>
            </a:r>
            <a:r>
              <a:rPr b="1" lang="en-US" sz="1400" spc="-1" strike="noStrike">
                <a:solidFill>
                  <a:srgbClr val="009ddb"/>
                </a:solidFill>
                <a:latin typeface="Verdana"/>
              </a:rPr>
              <a:t>Wireless Sensor Networks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: Theory and Practi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ltenegus Dargie and Christian Poellabauer © 20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image1.png"/>
          <p:cNvPicPr/>
          <p:nvPr/>
        </p:nvPicPr>
        <p:blipFill>
          <a:blip r:embed="rId2"/>
          <a:stretch/>
        </p:blipFill>
        <p:spPr>
          <a:xfrm>
            <a:off x="1674720" y="3757680"/>
            <a:ext cx="5843520" cy="1014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0000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00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ddb"/>
                </a:solidFill>
                <a:latin typeface="Arial"/>
              </a:rPr>
              <a:t>Chapter 3: Node Architecture</a:t>
            </a:r>
            <a:endParaRPr b="1" lang="en-US" sz="3600" spc="-1" strike="noStrike">
              <a:solidFill>
                <a:srgbClr val="009dd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Analog-to-Digital Converter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8280" y="1189080"/>
            <a:ext cx="792036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C converts the output of a sensor - which is a continuous, analog signal - into a digital signal. It requires two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788"/>
              </a:spcBef>
              <a:buClr>
                <a:srgbClr val="0000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de1"/>
                </a:solidFill>
                <a:latin typeface="Arial"/>
              </a:rPr>
              <a:t>the analog signal has to be quantized</a:t>
            </a:r>
            <a:r>
              <a:rPr b="0" lang="en-US" sz="1800" spc="-1" strike="noStrike">
                <a:solidFill>
                  <a:srgbClr val="00ade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339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able discrete values is influenced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) by the frequency and magnitude of the 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) by the available processing and storag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ade1"/>
                </a:solidFill>
                <a:latin typeface="Arial"/>
              </a:rPr>
              <a:t>   the sampling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339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yquist rate does not suffice because of noise and transmission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339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lution of ADC - an expression of the number of bits that can be used to encode the digital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681360" y="5094360"/>
            <a:ext cx="954000" cy="6350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379440" y="4578480"/>
            <a:ext cx="79200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236600" y="5761080"/>
            <a:ext cx="6980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Q is the resolution in volts per step (volts per output code)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p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the peak-to-peak analog voltage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the ADC’s resolution in bi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Processor Sub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Processor Subsystem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s all the other subsystems and some additional periph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main purpose is to execute instructions pertaining to</a:t>
            </a:r>
            <a:r>
              <a:rPr b="0" lang="en-US" sz="2000" spc="-1" strike="noStrike">
                <a:solidFill>
                  <a:srgbClr val="00ade1"/>
                </a:solidFill>
                <a:latin typeface="Arial"/>
              </a:rPr>
              <a:t> sen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ade1"/>
                </a:solidFill>
                <a:latin typeface="Arial"/>
              </a:rPr>
              <a:t>commun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00ade1"/>
                </a:solidFill>
                <a:latin typeface="Arial"/>
              </a:rPr>
              <a:t> self-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onsist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or c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volatile memory - stores program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memory - temporarily stores the sens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dd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Architectural Overview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or subsystem can be designed by employing one of the three basic computer archit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Von Neumann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Harvard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uper-Harvard (SHARC)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Von Neumann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n Neumann archite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ingle mem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ace - storing program instructions an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ingle b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to transfer data between the processor and the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ing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 spe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each data transfer requires a separate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Von Neumann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22360" y="1949400"/>
            <a:ext cx="818208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Harvard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57200" y="1187280"/>
            <a:ext cx="817704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vard architect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eparate memory spa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storing program instructions and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memory space is interfaced with the processor with a separate data b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instructions and data can be accessed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at the same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pecial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ingle instruction, multiple data (SIM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peration, a special arithmetic operation and a bit rever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ulti-tasking operating systems; but does not provide virtual memory prot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Harvard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631800" y="1914480"/>
            <a:ext cx="79614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Super-Harvard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8640" y="1233000"/>
            <a:ext cx="8226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-Harvard architecture (best known: SHAR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extension of the Harvard archite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adds two compon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the Harvard archite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instruction cache - temporarily store frequently used instructions - enhances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underutilized program memory can be used as a temporary relocation place fo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 Memory Access (DM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3427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ly CPU cycles can be invested in a different 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3427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 memory bus and data memory bus accessible from outside the c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8640" y="1300320"/>
            <a:ext cx="822672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Super-Harvard Architecture</a:t>
            </a:r>
            <a:r>
              <a:rPr b="1" lang="en-US" sz="2800" spc="-1" strike="noStrike">
                <a:solidFill>
                  <a:srgbClr val="009ddb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31" name="Rechteck 5"/>
          <p:cNvSpPr/>
          <p:nvPr/>
        </p:nvSpPr>
        <p:spPr>
          <a:xfrm>
            <a:off x="3786120" y="1643040"/>
            <a:ext cx="142884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Processo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hteck 6"/>
          <p:cNvSpPr/>
          <p:nvPr/>
        </p:nvSpPr>
        <p:spPr>
          <a:xfrm>
            <a:off x="6429240" y="1643040"/>
            <a:ext cx="142884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ata Mem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feil nach links und rechts 7"/>
          <p:cNvSpPr/>
          <p:nvPr/>
        </p:nvSpPr>
        <p:spPr>
          <a:xfrm>
            <a:off x="5214960" y="2468520"/>
            <a:ext cx="1198440" cy="320760"/>
          </a:xfrm>
          <a:prstGeom prst="leftRightArrow">
            <a:avLst>
              <a:gd name="adj1" fmla="val 50000"/>
              <a:gd name="adj2" fmla="val 49990"/>
            </a:avLst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feil nach rechts 8"/>
          <p:cNvSpPr/>
          <p:nvPr/>
        </p:nvSpPr>
        <p:spPr>
          <a:xfrm>
            <a:off x="1214280" y="328284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feil nach links und rechts 9"/>
          <p:cNvSpPr/>
          <p:nvPr/>
        </p:nvSpPr>
        <p:spPr>
          <a:xfrm>
            <a:off x="1214280" y="3786120"/>
            <a:ext cx="720720" cy="36036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hteck 10"/>
          <p:cNvSpPr/>
          <p:nvPr/>
        </p:nvSpPr>
        <p:spPr>
          <a:xfrm>
            <a:off x="2000160" y="3214800"/>
            <a:ext cx="1143000" cy="438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Address B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hteck 11"/>
          <p:cNvSpPr/>
          <p:nvPr/>
        </p:nvSpPr>
        <p:spPr>
          <a:xfrm>
            <a:off x="2000160" y="3705120"/>
            <a:ext cx="1143000" cy="438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ata B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hteck 12"/>
          <p:cNvSpPr/>
          <p:nvPr/>
        </p:nvSpPr>
        <p:spPr>
          <a:xfrm>
            <a:off x="1143000" y="3143160"/>
            <a:ext cx="20718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feil nach links 13"/>
          <p:cNvSpPr/>
          <p:nvPr/>
        </p:nvSpPr>
        <p:spPr>
          <a:xfrm>
            <a:off x="5214960" y="1714680"/>
            <a:ext cx="1198440" cy="320400"/>
          </a:xfrm>
          <a:prstGeom prst="leftArrow">
            <a:avLst>
              <a:gd name="adj1" fmla="val 50000"/>
              <a:gd name="adj2" fmla="val 50046"/>
            </a:avLst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hteck 14"/>
          <p:cNvSpPr/>
          <p:nvPr/>
        </p:nvSpPr>
        <p:spPr>
          <a:xfrm>
            <a:off x="1143000" y="1643040"/>
            <a:ext cx="142884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Program Mem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feil nach rechts 15"/>
          <p:cNvSpPr/>
          <p:nvPr/>
        </p:nvSpPr>
        <p:spPr>
          <a:xfrm>
            <a:off x="2571840" y="1714680"/>
            <a:ext cx="1198440" cy="320400"/>
          </a:xfrm>
          <a:prstGeom prst="rightArrow">
            <a:avLst>
              <a:gd name="adj1" fmla="val 50000"/>
              <a:gd name="adj2" fmla="val 50046"/>
            </a:avLst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feil nach links und rechts 16"/>
          <p:cNvSpPr/>
          <p:nvPr/>
        </p:nvSpPr>
        <p:spPr>
          <a:xfrm>
            <a:off x="2587680" y="2465280"/>
            <a:ext cx="1198440" cy="320760"/>
          </a:xfrm>
          <a:prstGeom prst="leftRightArrow">
            <a:avLst>
              <a:gd name="adj1" fmla="val 50000"/>
              <a:gd name="adj2" fmla="val 49990"/>
            </a:avLst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hteck 17"/>
          <p:cNvSpPr/>
          <p:nvPr/>
        </p:nvSpPr>
        <p:spPr>
          <a:xfrm>
            <a:off x="6500880" y="4000680"/>
            <a:ext cx="142884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/O Controll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feil nach oben und unten 18"/>
          <p:cNvSpPr/>
          <p:nvPr/>
        </p:nvSpPr>
        <p:spPr>
          <a:xfrm>
            <a:off x="7072200" y="2786040"/>
            <a:ext cx="320760" cy="1198440"/>
          </a:xfrm>
          <a:prstGeom prst="upDownArrow">
            <a:avLst>
              <a:gd name="adj1" fmla="val 50000"/>
              <a:gd name="adj2" fmla="val 49990"/>
            </a:avLst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feil nach oben und unten 19"/>
          <p:cNvSpPr/>
          <p:nvPr/>
        </p:nvSpPr>
        <p:spPr>
          <a:xfrm>
            <a:off x="7072200" y="5159520"/>
            <a:ext cx="320760" cy="1198440"/>
          </a:xfrm>
          <a:prstGeom prst="upDownArrow">
            <a:avLst>
              <a:gd name="adj1" fmla="val 50000"/>
              <a:gd name="adj2" fmla="val 49990"/>
            </a:avLst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hteck 20"/>
          <p:cNvSpPr/>
          <p:nvPr/>
        </p:nvSpPr>
        <p:spPr>
          <a:xfrm>
            <a:off x="3786120" y="2357280"/>
            <a:ext cx="1143000" cy="438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nstruction Cach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Microcontroller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 of micro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s the following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c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atile memory (RAM) for data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, EPROM, EEPROM, or Flash mem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I/O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e input and output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r more internal analog-to-digital  conve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communications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Microcontroller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table for building computationally less intensive, standalone applications, because of its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ompact constru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mall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low-power consum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low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high spe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programming and eases debugging, because of the use of higher-level programming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powerfu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 effici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ome custom-made processors (such as DSPs and FPG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pplications (simple sensing tasks but large scale deployments) may prefer to use architecturally simple but energy- and cost-efficient proc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Digital Signal Processor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discrete signals with digital fil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s minimize the effect of noise on a signal or enhance or modify the spectral characteristics of a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analog signal processing requires complex hardware components, digital signal processors (DSP) requires simple adders, multipliers, and delay circu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Ps are highly 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DSPs are designed with the Harvard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Digital Signal Processor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  <a:ea typeface="宋体"/>
              </a:rPr>
              <a:t>powerfu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  <a:ea typeface="宋体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digital filters can be realized with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  <a:ea typeface="宋体"/>
              </a:rPr>
              <a:t>commonpl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D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  <a:ea typeface="宋体"/>
              </a:rPr>
              <a:t>useful for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that require the deployment of nodes </a:t>
            </a:r>
            <a:r>
              <a:rPr b="0" lang="en-US" sz="2000" spc="-1" strike="noStrike">
                <a:solidFill>
                  <a:srgbClr val="009ddb"/>
                </a:solidFill>
                <a:latin typeface="Arial"/>
                <a:ea typeface="宋体"/>
              </a:rPr>
              <a:t>in harsh physical settin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(where the signal transmission suffers corruption due to noise and interference and, hence, requires aggressive signal proces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advan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ome tasks require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  <a:ea typeface="宋体"/>
              </a:rPr>
              <a:t>protoc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(and not numerical operations) that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  <a:ea typeface="宋体"/>
              </a:rPr>
              <a:t>requ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periodical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  <a:ea typeface="宋体"/>
              </a:rPr>
              <a:t>upgra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  <a:ea typeface="宋体"/>
              </a:rPr>
              <a:t>modifi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(i.e., the networks should support flexibility in network reprogram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299960"/>
            <a:ext cx="822636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dd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Application-specific Integrated Circuit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C is an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I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can be customized for a specific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ypes of design approaches: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full-custom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half-custo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-customized 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logic cells, circuits, or layout are custom made in order to optimize cell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s features which are not defined by the standard cell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ive and long design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-customized ASICs are built with logic cells that are available in the standard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both cases, the final logic structure is configured by the end user - an ASIC is a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ost efficient soluti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flexib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ade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reu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dd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Application-specific Integrated Circuit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ly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imple desig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can be optimized to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meet a specif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ustom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multi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croprocessor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o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embedded softw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designed in a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ing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advanta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hig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velopment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os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lack of re-configu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p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Cs are not meant to replace microcontrollers or DSPs but to complement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 rudimentary and low-level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couple these tasks from the main process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8640" y="121104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sensor nodes are the essential building blocks in a wireless sensor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en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proces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to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execu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communication protocols as well as data processing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de consists of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sens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 process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power sub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-off between flexibility and efficiency – both in terms of energy and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Field Programmable Gate Array (FPGA)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inction between ASICs and FPGAs is not always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PGAs are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more compl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design and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more flexi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PGAs are programmed electrically, by modifying a packaged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ing is done with the support of circuit diagrams and hardware description languages, such as VHDL and Veri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Field Programmable Gate Array (FPGA)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higher bandwid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ared to D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flexi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ir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parallel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floating point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flexibility of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sign and realization process is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os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Comparison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micro-contro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 prefer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 design goal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hieve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with the other mentioned options is preferred if power consumption and computational efficiency is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DS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expensive, large in size and less flexible; they are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best for signal proc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th specific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FPGAs are fa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n both microcontrollers and digital signal processors and support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parallel comp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but their production cost and the programming difficulty make them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less sui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Comparison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AS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higher bandwidt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they are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the small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size,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per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mu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bet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consume less po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n any of the other processing types; but have a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high c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oduction owing to the complex desig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Communication Interfaces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Fa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energy effic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data trans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he subsystems of a wireless sensor node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is v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the practical size of the node puts restriction on system b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via a parallel bus is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fas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n a serial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arallel bus needs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more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considering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the size of the n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parallel bu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never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Communication Interfaces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oice is often between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serial interfa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al Peripheral Interface (S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Purpose Input/Output (GP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 Data Input/Output (S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Integrated Circuit (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these, the most commonly used buses are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SP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I</a:t>
            </a:r>
            <a:r>
              <a:rPr b="0" i="1" lang="en-US" sz="2400" spc="-1" strike="noStrike" baseline="30000">
                <a:solidFill>
                  <a:srgbClr val="00ade1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534960" y="1468440"/>
            <a:ext cx="8244000" cy="3905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3000240" y="5423040"/>
            <a:ext cx="336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Figure 3.1 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Architecture of a wireless sensor no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Serial Peripheral Interfac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 (Motorola, in the mid-8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high-spe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full-duplex synchron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ial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ve an official standard, but use of the SPI interface should conform to the implementation specification of others - correct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I bus defines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four p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I (MasterOut/Slav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876"/>
              </a:spcBef>
              <a:buClr>
                <a:srgbClr val="0000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o transmit data </a:t>
            </a:r>
            <a:r>
              <a:rPr b="0" i="1" lang="en-US" sz="1800" spc="-1" strike="noStrike">
                <a:solidFill>
                  <a:srgbClr val="00ade1"/>
                </a:solidFill>
                <a:latin typeface="Arial"/>
              </a:rPr>
              <a:t>from the master to the sla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n a device is configured as a mas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O (MasterIn/SlaveOu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LK (Serial Cloc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00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by the </a:t>
            </a:r>
            <a:r>
              <a:rPr b="0" i="1" lang="en-US" sz="1800" spc="-1" strike="noStrike">
                <a:solidFill>
                  <a:srgbClr val="00ade1"/>
                </a:solidFill>
                <a:latin typeface="Arial"/>
              </a:rPr>
              <a:t>mas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e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ock signal that is needed to </a:t>
            </a:r>
            <a:r>
              <a:rPr b="0" i="1" lang="en-US" sz="1800" spc="-1" strike="noStrike">
                <a:solidFill>
                  <a:srgbClr val="00ade1"/>
                </a:solidFill>
                <a:latin typeface="Arial"/>
              </a:rPr>
              <a:t>synchronize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876"/>
              </a:spcBef>
              <a:buClr>
                <a:srgbClr val="0000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by the </a:t>
            </a:r>
            <a:r>
              <a:rPr b="0" i="1" lang="en-US" sz="1800" spc="-1" strike="noStrike">
                <a:solidFill>
                  <a:srgbClr val="00ade1"/>
                </a:solidFill>
                <a:latin typeface="Arial"/>
              </a:rPr>
              <a:t>sla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ign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ize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 (Chip Select)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via the CS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Serial Peripheral Interfac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master and slave devices hold a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device in every transmission must read and se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 supports a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synchronous communication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ster and the slave must agree on the 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and slave should agree on two additional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 polarity (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P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- defines whether a clock is used as high- or low-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 phase (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P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- determines the times when the data in the registers is allowed to change and when the written data can be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Serial Peripheral Interfac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380880" y="1157400"/>
            <a:ext cx="8313840" cy="4991040"/>
          </a:xfrm>
          <a:prstGeom prst="rect">
            <a:avLst/>
          </a:prstGeom>
          <a:ln w="0">
            <a:noFill/>
          </a:ln>
        </p:spPr>
      </p:pic>
      <p:sp>
        <p:nvSpPr>
          <p:cNvPr id="192" name="Rechteck 4"/>
          <p:cNvSpPr/>
          <p:nvPr/>
        </p:nvSpPr>
        <p:spPr>
          <a:xfrm>
            <a:off x="2646360" y="1122480"/>
            <a:ext cx="4460760" cy="40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Inter-Integrated Circuit</a:t>
            </a:r>
            <a:r>
              <a:rPr b="1" lang="en-US" sz="2800" spc="-1" strike="noStrike">
                <a:solidFill>
                  <a:srgbClr val="009ddb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device type that uses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must have </a:t>
            </a:r>
            <a:r>
              <a:rPr b="0" lang="en-US" sz="2400" spc="-1" strike="noStrike">
                <a:solidFill>
                  <a:srgbClr val="00ade1"/>
                </a:solidFill>
                <a:latin typeface="Arial"/>
              </a:rPr>
              <a:t>a unique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will be used to communicate with a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arlier versions, a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7 bit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used, allowing 112 devices to be uniquely addressed - due to an increasing number of devices, it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is insuffic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uses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10 bit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is a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multi-master half-dupl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synchronous ser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two bidirectional lines: (unlike SPI, which uses fo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Clock (SC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Data (S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00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Inter-Integrated Circuit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each master generates its own clock signal, communicating devices must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synchronize their clock sp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lower slave device could wrongly detect its address on the SDA line while a faster master device is sending data to a third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requires arbitration between master devices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wan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end or receive data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ir arbitration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her the master that holds the SDA line low for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the longest time wi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Inter-Integrated Circuit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enables a device to read data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at a byte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fast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vice can hold the SCL low until it completes reading or sending the next byte - called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handsh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a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is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to minimize co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onnecting de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mmodating lower transmission sp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defines two speed mo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a fast-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 bit rate of up to 400K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high-speed 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 transmission rate of up to 3.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downwards compatible to ensure communication with older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Comparison 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12720" y="1325520"/>
          <a:ext cx="8237520" cy="4389480"/>
        </p:xfrm>
        <a:graphic>
          <a:graphicData uri="http://schemas.openxmlformats.org/drawingml/2006/table">
            <a:tbl>
              <a:tblPr/>
              <a:tblGrid>
                <a:gridCol w="4064040"/>
                <a:gridCol w="4173480"/>
              </a:tblGrid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SP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I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 lines enable full-duplex trans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 lines reduce space and simplify circuit layout; Lowers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No addressing is required due to 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ddressing enables multi-master mode; Arbitration is requir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llowing only one master avoids confli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Multi-master mode is prone to confli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Hardware requirement support increases with an increasing number of connected devices -- cost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Hardware requirement is independent of the number of devices using the b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The master's clock is configured according to the slave's speed but speed adaptation slows down the mas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Slower devices may stretch the clock -- latency but keeping other devices wa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Speed depends on the maximum speed of the slowest de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Speed is limited to 3.4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Heterogeneous registers size allows flexibility in the devices that are support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Homogeneous register size reduces overhe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ombined registers imply every transmission should be read AND wr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Devices that do not read or provide data are not forced to provide potentially useless by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The absence of an official standard leads to application specific implemen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Official standard eases integration of devices since developers can rely on a certain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Communication Interfaces - Summary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es are essential highways to transf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the concern for siz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0" lang="en-US" sz="2000" spc="-1" strike="noStrike">
                <a:solidFill>
                  <a:srgbClr val="009ddb"/>
                </a:solidFill>
                <a:latin typeface="Arial"/>
              </a:rPr>
              <a:t>serial bus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al buses demand high clock speeds to gain </a:t>
            </a:r>
            <a:r>
              <a:rPr b="0" lang="en-US" sz="2000" spc="-1" strike="noStrike">
                <a:solidFill>
                  <a:srgbClr val="00ade1"/>
                </a:solidFill>
                <a:latin typeface="Arial"/>
              </a:rPr>
              <a:t>the same through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parallel b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al buses can also be </a:t>
            </a:r>
            <a:r>
              <a:rPr b="0" lang="en-US" sz="2000" spc="-1" strike="noStrike">
                <a:solidFill>
                  <a:srgbClr val="00ade1"/>
                </a:solidFill>
                <a:latin typeface="Arial"/>
              </a:rPr>
              <a:t>bottlenec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, Von Neumann architecture) or may </a:t>
            </a:r>
            <a:r>
              <a:rPr b="0" lang="en-US" sz="2000" spc="-1" strike="noStrike">
                <a:solidFill>
                  <a:srgbClr val="00ade1"/>
                </a:solidFill>
                <a:latin typeface="Arial"/>
              </a:rPr>
              <a:t>not scale w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processor speed (e.g., 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s due to contention for bus access become critical, for example, if some of the devices act unfairly and keep the bus occup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8640" y="1300320"/>
            <a:ext cx="822672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IMote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8640" y="121104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ote sensor node architecture is a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multi-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chitecture, consisting of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wer management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cessor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nsing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munication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facing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IMote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1886040" y="1542960"/>
            <a:ext cx="537516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IMote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8640" y="122220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ultiple-sensor board contain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2-bit, four channels A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high-resolution temperature/humidity se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ow-resolution digital temperature se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ght se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bus is used to connect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 rate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I bus is used to interface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hig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 rate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IMote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1692360" y="1644480"/>
            <a:ext cx="56736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IMote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ing subsystem prov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main process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icroprocesso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in low voltage (0.85V) and low frequency (13MHz)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Voltage Scaling (104MHz - 416M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eep and deep sleep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 enabling </a:t>
            </a:r>
            <a:r>
              <a:rPr b="0" i="1" lang="en-US" sz="1800" spc="-1" strike="noStrike">
                <a:solidFill>
                  <a:srgbClr val="00ade1"/>
                </a:solidFill>
                <a:latin typeface="Arial"/>
              </a:rPr>
              <a:t>low power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oprocess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 D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erates multimedia operations - computation int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XYZ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 the four sub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XYZ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411120" y="1117440"/>
            <a:ext cx="824724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XYZ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8640" y="124920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or subsystem is based on the ARM7TDMI core micro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58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ifferent modes (32bits and 16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n on-chip memory of 4KB boot ROM and a 32KB RAM - can be extended by up to 512KB of flash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pheral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MA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pur 10-bit ADC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al ports (RS232, SPI, 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, S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multiplexed general purpose I/O p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XYZ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unication subsystem is connected to the processing subsystem through a SPI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2420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RF trans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 RF message has been successfully received, the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PI interf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ables the radio to wake up a sleeping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or subsystem controls the communication subsystem by either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turning it 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putting it in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 sle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Sensing Subsystem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640" y="1211400"/>
            <a:ext cx="822672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nsing subsystem integ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76280" y="1779480"/>
          <a:ext cx="8226360" cy="4421160"/>
        </p:xfrm>
        <a:graphic>
          <a:graphicData uri="http://schemas.openxmlformats.org/drawingml/2006/table">
            <a:tbl>
              <a:tblPr/>
              <a:tblGrid>
                <a:gridCol w="1182600"/>
                <a:gridCol w="1295280"/>
                <a:gridCol w="2532240"/>
                <a:gridCol w="3216240"/>
              </a:tblGrid>
              <a:tr h="459000"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ed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o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 and 3D acceleration of movements of people and o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cano activ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ffness of a struc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ffness of bones, limbs, joints; Motor fluctuation in Parkinson’s dis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egularities in rail, axle box or wheels of a train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ct of fragile objects during transpor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720" rIns="90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ustic emission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astic waves generated by the energy released during crack propag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s micro-structural changes or displac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720" rIns="90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ustic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ation &amp; Pipeli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ustic pressure vib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detection; Measure structural irregularities; Gas conta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720" rIns="90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nce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e concent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 the water content of a so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Hogthrob Node Architecture</a:t>
            </a:r>
            <a:r>
              <a:rPr b="1" lang="en-US" sz="2800" spc="-1" strike="noStrike">
                <a:solidFill>
                  <a:srgbClr val="009ddb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8640" y="122724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for a specific application, namely, to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monitor pig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s movements of a sow to predict onset of est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at appropriate care can be given for pregnant s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ng cough or limping to monitor ill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Hogthrob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1890720" y="1171440"/>
            <a:ext cx="626760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Hogthrob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ing subsystems consists of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micro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</a:t>
            </a:r>
            <a:r>
              <a:rPr b="0" i="1" lang="en-US" sz="1800" spc="-1" strike="noStrike">
                <a:solidFill>
                  <a:srgbClr val="00ade1"/>
                </a:solidFill>
                <a:latin typeface="Arial"/>
              </a:rPr>
              <a:t>less compl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9ddb"/>
                </a:solidFill>
                <a:latin typeface="Arial"/>
              </a:rPr>
              <a:t>less energy intens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de1"/>
                </a:solidFill>
                <a:latin typeface="Arial"/>
              </a:rPr>
              <a:t>initializes the FPGA and fun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an external timer and an ADC converter to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Field Programmable Gate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s the sow monitoring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s the functions of the sensor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Hogthrob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a number of interfaces supported by the processing subsystem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interface for the sensing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I interface for the communication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JTAG interface for in-system programmability and debu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rial (RS232) interface for interaction with a 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Sensing Subsystem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9800" y="1355760"/>
          <a:ext cx="8274240" cy="4664160"/>
        </p:xfrm>
        <a:graphic>
          <a:graphicData uri="http://schemas.openxmlformats.org/drawingml/2006/table">
            <a:tbl>
              <a:tblPr/>
              <a:tblGrid>
                <a:gridCol w="1562040"/>
                <a:gridCol w="1244880"/>
                <a:gridCol w="2712960"/>
                <a:gridCol w="27543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ed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 electrical a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le a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al sens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al capacitance or inductan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ected by the composition o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ed so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 of nutrient contents a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rosco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ular velo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ion of gait ph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idity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 &amp; H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and absolute humid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onic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ussive acoustic waves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th quake or volcanic eru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etic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ce, intensity, direction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tion and variation of a magne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ce, speed and density of 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on a street; conges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oxygenation of patient'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oglob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vascular exertion and tren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exertion relative to a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li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at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ntration of hydrogen 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s the acid and alka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 of a water measure o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nli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Sensing Subsystem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73040" y="1352520"/>
          <a:ext cx="8255160" cy="4297320"/>
        </p:xfrm>
        <a:graphic>
          <a:graphicData uri="http://schemas.openxmlformats.org/drawingml/2006/table">
            <a:tbl>
              <a:tblPr/>
              <a:tblGrid>
                <a:gridCol w="1565280"/>
                <a:gridCol w="1139760"/>
                <a:gridCol w="3040200"/>
                <a:gridCol w="250992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ed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 acoustic spectros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 sens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s gas leak in a pipe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zoelectric cyli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 velo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eak produces a high frequency noise that produces a high frequency noise that produces vib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il moisture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il mois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tilizer and water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 &amp; H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ure exerted on a flu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 infrared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care &amp; H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red radiation from o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on de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smic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 primary and secondary seismic waves (Body wave, ambient vibr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ion of earth qua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ygen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 and proportion of oxygen in the bl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flow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oppler shift of a reflected ultrasonic wave in the bl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8640" y="1300320"/>
            <a:ext cx="822672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12:15:06Z</dcterms:created>
  <dc:creator>Marilyn Turnamian</dc:creator>
  <dc:description/>
  <dc:language>en-US</dc:language>
  <cp:lastModifiedBy>1010</cp:lastModifiedBy>
  <cp:lastPrinted>2001-06-14T19:16:14Z</cp:lastPrinted>
  <dcterms:modified xsi:type="dcterms:W3CDTF">2017-02-28T20:28:23Z</dcterms:modified>
  <cp:revision>178</cp:revision>
  <dc:subject/>
  <dc:title>No Slide Title</dc:title>
</cp:coreProperties>
</file>